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etros" initials="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09-21T14:59:34.390000000" idx="1">
    <p:pos x="5567" y="367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5757-84A9-4F8F-8C7D-C0B94B3FE8EC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A925-8598-4D0A-846B-94E1B1206B8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169-6C77-4438-ADE0-DCD17EFC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8BC-A674-4C4B-B3E8-EAEB7ADA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90C-AB9A-4C82-B530-7B091CF1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7E6-5643-437B-9215-A6083F4B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DB1A-FEB8-4214-A588-66AC0F54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92A4-1CC6-4DD4-8CA9-343F0B3A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9F46-65DE-47D7-B959-B5A6BD8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1FFE-D14D-4679-9E0E-011010CC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5A53-5DD2-48E4-AFFD-829BE977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4046-D2EF-43BA-A59F-3DB089F7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011E-B7A5-4914-ABCD-4C60D33D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BEF-63A6-400F-8362-324F9F39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AC1A-F43E-4686-995F-94D71D2E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185E-551F-4BAD-8963-EDF210C3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EC04-DA10-48F2-8285-08CD6478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6133-D1DF-48C1-A72D-659EE4B6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E12D-1596-4CA4-9F51-9F4CEC23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BF35-8E2F-4BA5-BE6E-AABACAC0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4EE5-93CD-4B80-B1F6-09E60253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9FBC-FFF4-4F60-8991-65FA55DA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7225-852C-4445-8D61-7ADCA9F6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136D8-D30E-4663-9195-F0BD6B54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855-6BF9-4EA9-A926-5C4936D2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2B43-BD66-4F56-8BC9-CFDBB376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54E0-D8FF-433E-BB54-3999AEF5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F9C1-6007-48A4-9A31-A5FE4D64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5F17-D725-47D6-93B9-725E25BC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F236-88E0-491A-8F0D-97A1CD91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C8DF-D195-4A12-859C-8E758E94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E2C12-1D99-4A6D-A27F-E7807BC9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D6904-3682-4A95-8835-7CDEEB50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E3F19-6268-456D-AE78-9F0A13A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54DD7-A8DB-4B1B-8687-AFA01EBE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84C-6A82-44DC-B8AB-963B38CC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E70E-7EE0-4287-8F73-AC8FB9E9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C8BD-7AAD-4E99-BCA4-C7D05B8F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B861-D8C9-4498-BF85-63F7AC6D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D60E3-8C84-4CEA-9807-5095E362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E631-B680-4183-8703-F200A565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6A3B0-5D4A-4E50-95EC-E1A6D902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4B32-1BDD-43D2-9A92-9EBB5BDB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91DE-06DB-400E-B609-1581ED6A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3788-4AAE-4282-A5D2-EDF4B199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ADF20-3E7D-496A-B6FB-29E39EA5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FF0-899F-48BB-BFD8-27FDC7D1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02D8E-BC40-4CA5-898D-0BC03962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1B1DE-8485-4135-B237-C3254BAD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E5299-B649-45C3-8552-1B1FEF53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AE0BE-186A-4FFC-9BE6-4ECAFCD4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89469-A2C1-409F-9C05-EF6D289F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2BD20-DD46-4CA4-9D99-40503CDE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F59FB-1B39-43F6-AFA4-9A152D35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ACF87-2ADE-4E38-AA73-E4A7C1E0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7296-E77B-490B-B2DE-1478E783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E2E31-7977-42FF-8CED-9D0BBFF2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A8F-99EB-4334-B1B1-A766B28A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06ADD-EA8E-47E6-9E68-B90E3DE4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46363-0FCB-446D-91A6-BD26F518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26F7C-6318-4AF4-81A1-3AB29CA0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CF153-B34D-496C-8FE4-46E7D90B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D67A6-3F72-45B7-9461-CF7A1AE0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BFB29-EC3C-4BFD-A8BB-18EB6AA5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C62A-85F9-42DD-9512-52F2CEEB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FBAC-2A4E-42CA-8B7C-20C1834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1222A-8EDA-44F3-BDA8-B1DEDA83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D8BB-A69F-4CFD-AC33-908EBFD6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DD6-C77B-429D-881B-38B44277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ADD42-B360-4BA9-8339-46AB20DC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0B120-34FB-4ADB-B691-CAAD0CC8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59C5A-460C-44EF-9FE7-222A6E4A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86A-E803-4D20-AF7C-068119C9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DAA-AB4E-4097-AA47-9D9DA13A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416A-69BE-4096-81AB-B97D4701FC14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7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12 - Ευθεία γραμμή σύνδεσης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60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B97D-20EA-4979-BD62-76F3C22BB425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1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8D45-DD57-4D73-A73F-B66CCF177AD6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6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12 - Ευθεία γραμμή σύνδεσης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63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16DF-0A49-4D9F-BF6D-7246A94F511F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13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12 - Ευθεία γραμμή σύνδεσης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16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A9F5-BEC6-48AD-8EDC-78E1229CE431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66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12 - Ευθεία γραμμή σύνδεσης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69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96CB-44BA-4578-B427-50B783296B1A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61080" cy="3706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23640" y="4076280"/>
            <a:ext cx="8458200" cy="25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έτρος Π. Καριώτογλου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αιδαγωγική Σχολή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ανεπιστήμιο Δυτικής Μακεδονίας 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δακτικές – μαθησιακές ακολουθίες: συνέπεια και του αδιεξόδου των εναλλακτικών ιδεών μαθητών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ΠΕ στην εκπαίδευση ΦΕ: συνέπεια της τεχνολογικής εξέλιξης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ργαστηριακή διδασκαλία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cover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quiry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ολιστική θεώρηση και έμφαση στις διαδικασίε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οντέλα και Μοντελοποίηση στην εκπαίδευση των ΦΕ: ολιστική θεώρηση και πρόταση της ψυχολογία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λέτη διαλόγων, επιχειρηματολογίας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gumenta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) και κατασκευής νοήματος στη διδασκαλία ΦΕ: διεύρυνση της κατανόησης + διαδικαστική γνώ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00040" y="571320"/>
            <a:ext cx="795816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ΙΣΤΟΡΙΚΑ ΔΙΑΜΟΡΦΩΜΕΝΑ ΡΕΥΜΑΤΑ ΤΗΣ ΔΙΔΑΚΤΙΚΗΣ ΤΩΝ Φ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ΔΙΔΑΚΤΙΚΗ ΠΡΟΤΑ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ΕΚΠΑΙΔΕΥΤΙΚΗ ΠΟΛΙΤΙΚ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ΕΠΙΣΤΗΜΟΛΟΓΙΚΗ ΘΕΩΡΗΣΗ ΤΩΝ Φ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1026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609040" cy="13651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28240" y="1714320"/>
            <a:ext cx="862956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υριαρχία του επιστημονικού περιεχομένου – Επιστήμη στο επίκεντρο της συζήτησης 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είραμα ως επιβεβαίωση της θεωρία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πίδειξη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ιδακτικό Μοντέλο Μεταφοράς, ως συνέπεια των συμπεριφοριστικών απόψεων για τη μάθη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ρευνα και Πράξη συγκλίνου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571320" y="571680"/>
            <a:ext cx="8001000" cy="5643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ώτη μεγάλη αλλαγή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πάλι βλέπει από τη μεριά της Επιστήμης / Επιστημόνων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utnik shock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ίδρα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ner &amp; Piaget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… «ο μαθητής ως μικρός επιστήμονας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novative Curricula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μαθητής αρχίζει να μπαίνει στο επίκεντρο της συζήτησης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οτελέσματα ερευνητικών προσπαθειών: Θετικά σε συναισθηματικό και ψυχοκινητικό επίπεδο, θετικές στάσεις ως προς τις ΦΕ, αλλά πενιχρά γνωστικά αποτελέσματα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εκπαιδευτική πράξη αποκλίνει από τη έρευνα και τη θεωρία – Παράγοντες που αιτιολογούν την απόκλιση (χρόνος, επιμόρφωση εκπαιδευτικών, …. ).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28760" y="642600"/>
            <a:ext cx="8143920" cy="564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δεύτερη μεγάλη αλλαγή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αυτή τη φορά κοιτάει προς τους μαθητές / τριε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1026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1438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Το κίνημα των εναλλακτικών / διαισθητικών ιδεών: π.χ. «η κίνηση είναι αποτέλεσμα της δύναμης» και οι πολλαπλές και αποκλίνουσες απόπειρες αξιοποίησής τους στη διδασκαλία: εννοιολογική αλλαγή με γνωστική σύγκρουση, ενίσχυση των ιδεών, χρήση αναλογιών, γεφύρωση κλπ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 μαθητής κατασκευάζει τη γνώση του ατομικά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iaget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ή  κοινωνικά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ygotski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ημαντική η επίδραση των Τεχνολογιών της Πληροφορίας και της Επικοινωνίας, ως εργαλείο αλλαγής των ιδεών των μαθητών 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οτελέσματα ερευνητικών προσπαθειών: Τα περισσότερα θετικά, αλλά μη γενικεύσιμα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Η Έρευνα τροφοδοτεί  την πράξη, αλλά η πράξη…. δύσκολα αλλάζει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ριτική στον εποικοδομητισμό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682560" y="1127160"/>
            <a:ext cx="77724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7017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ό το κίνημα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(cience) T(echnology) S(ociety)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, του 1960, και το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SE(nvironment)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τις νεότερες απόψεις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Μια πρόταση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. Millar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: Βασικές έννοιες και Μοντέλα π.χ. Ηλιακό σύστημα, Στοιχεία της επιστημονικής μεθόδου, Στοιχεία εξέλιξης των ιδεών – εννοιών της επιστήμης, Επιπτώσεις στην κοινωνία.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υρίαρχο στοιχείο το δημοκρατικό επιχείρημα: σε μια τεχνολογική κοινωνία οι πολίτες πρέπει να είναι σε θέση να συμμετέχουν στη λήψη αποφάσεων για σχετικά θέματα: κλωνοποίηση, απόβλητα, ηλεκτρομαγνητική ακτινοβολία (κεραίες)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οκλίνουσες τάσεις μεταξύ περιεχομένου και επιπτώσεων στην κοινωνία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εσωτερικές αντιφάσεις των προτάσεων και μια πιθανή λύση: ανάλογα με τα τεχνολογικά μοντέλα η ανάδειξη αντίστοιχων διδακτικών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35:42Z</dcterms:created>
  <dc:creator>qwerty</dc:creator>
  <dc:description/>
  <dc:language>en-US</dc:language>
  <cp:lastModifiedBy>Πέτρος Καριώτογλου</cp:lastModifiedBy>
  <dcterms:modified xsi:type="dcterms:W3CDTF">2019-05-19T10:46:08Z</dcterms:modified>
  <cp:revision>167</cp:revision>
  <dc:subject/>
  <dc:title>Κρίσιμα Ερωτήματα</dc:title>
</cp:coreProperties>
</file>